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43B-F7DF-454F-B03A-02B50822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E9A-067F-4C1C-97A8-0F9F4C78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C475-096D-453A-836B-986D9907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07BD-A27C-4115-B62C-766A94B7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BE93-A8FD-479D-9603-E2EF1D6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E11-3BD8-44A0-9FCA-D05F680B2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0075-F41C-4B93-88AC-500624DA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3352-61C6-43F1-A8BB-911EDA3F8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3D7-261B-4A06-A89E-A65550563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23C-5BD5-46E3-AE82-4E61F7C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794-E36A-48A2-858E-89F02692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EC1-6D18-4477-87BA-2DE37835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BAEF-1273-4341-8764-850CC402D81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55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63852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y is the </a:t>
            </a: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moon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levant to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our daily lives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8769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How can we find out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05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did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et ther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far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way is it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change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the way we feel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sun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Earth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Did man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really go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to the moon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Why did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astronauts go there?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stay in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one plac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How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long have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people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studied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the moon 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moon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It changes.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ha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ould i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be like if the moon was gone forever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To fin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answers to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hat we a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ONDERING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about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e will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Make personal observ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of the moon in the sk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Draw diagrams of h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moon moves acr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sky at night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Keep a journal describing the observa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cc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Discuss our entries with one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Use Internet educational websites to help 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esign animated videos depicting th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moon’s revolu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round the Ear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Earth’s r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Earth’s revolu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round the s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Relative sizes will be shown to sca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Do research on the Internet to find out how the moon affec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The Earth’s t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nim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Use a Venn diagram to sh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similarit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and differ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between the moon, the Earth, and the su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evelop a PowerPoint presentation explain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historical findings of 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stronom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and analyz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the differences in wha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Aristotle, Ptolem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Copernicus, and Galileo observed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what influenced their concl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n Internet survey/poll for opinions abo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stronauts’ moonwalk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on past, presen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uture space explo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and post the da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A full moon is bright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is not a plane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stronauts landed on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oes around the Earth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nimals howl at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What is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it made of 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 Peg Norman</cp:lastModifiedBy>
  <dcterms:modified xsi:type="dcterms:W3CDTF">2009-03-15T23:58:22Z</dcterms:modified>
  <cp:revision>13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